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7AF-1335-4D61-9937-CA786599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0C9-BD00-4FBB-837F-F5F989E6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27B-F2D9-42A3-800E-4143B493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461-1384-4F0C-B3A6-AA3DC45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D0D-E929-4F3F-A2E2-6A6F23F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568-E88B-4D52-AB6C-B4382A6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B56-1F75-4B20-A372-64CFAB3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252-7F70-4F3D-9A05-A8FD17B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BF3-32E9-449B-AEB0-71FD64F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666-F616-43F6-820D-84A678BB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F71-AE1A-4833-BD3A-EA01B20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D6F-63F1-485F-8F44-A5011F4F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4940-9B62-4FA7-9E41-3C73F4DFFA1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.)  2 x 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0.)  2y x 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1.)  4p x 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2.)  y x z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(y times z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3.)  w x f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4.)  2n x 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3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2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4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2y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4p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2n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2.)  4 x 3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3.)  -3 x 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4.)  -1 x 2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5.)  4 x 3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6.)  4 x -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7.)  c x c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8.)  f x f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9.)  g x g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Bruno Reddy</cp:lastModifiedBy>
  <dcterms:modified xsi:type="dcterms:W3CDTF">2005-10-10T22:00:18Z</dcterms:modified>
  <cp:revision>2</cp:revision>
  <dc:subject/>
  <dc:title>1.)  2 x n</dc:title>
</cp:coreProperties>
</file>